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A87-F351-4C91-B7B2-16631D15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9F9-11F6-4C0F-BC99-E76C9A54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B92-9698-4465-8C8B-6D418199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619-66CD-4B5A-A846-C995E872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4F1-777C-4A3F-95DB-4F351425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271B-7396-4E47-A0E8-C42B6041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2D1-801D-4ECE-A0F3-68392926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750D-71C1-43E1-A2DB-5D7F0364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3905-372F-4F5A-8BB6-3FD8EF3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8D3B-6E08-4A64-BF75-2E9B04A7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7B1E-D8A0-4992-81B7-5E86D0D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6E4-3212-4DC0-BC4D-10266BF5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A723-3F0E-41E2-94B7-2D57F8C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893-C3B4-4232-BC94-D9C5A29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6513-BF37-4F8B-B04B-7F722C6D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D18C-C361-4542-8D85-C965F8A7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297-BDE3-4A37-8FEE-40EEC697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5CE-361D-4595-9F0A-24EA124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14-A438-4529-BCCD-F83AF72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E63-CC30-4159-9455-D96C70F0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C8B-71B1-497B-AD69-BE272CE8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356-EE02-4437-8356-951D238D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7FE-57FD-43A0-A62D-497F29A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BF5-3CEF-432E-BCF4-05EABA9E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9E3-97E2-459D-9D41-AAD6E23C3E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E906-5D27-41A6-8DF6-1880F92AFD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the number of woman marithon runners increased from seventy eight to four hundred and thirty tw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L 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the number of women marathon runners increased from 78 to 43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: If related numbers appear in the same sentence and some can be written out while others should appear as numerals, use all numerals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bout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practi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tried to ________ the team members to make a good eff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was upset and seemed to only say 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was trying to _________ himself to his boss, in an effort to get a ra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needs to __________ her gr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ttitude is _________, he is so full of him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-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synonym for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mb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ri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Kill A Mockingbird-Ch. 1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ood in Maycomb as the trial approac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Jem worried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 Jem think that something is wrong when Atticus le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at reason do the men come to the j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Scout stop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opinion of Atticus 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worksheet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hapters 16 and 17 for Mon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vocabulary for Fri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25:32Z</dcterms:created>
  <dc:creator>rebecca</dc:creator>
  <dc:description/>
  <dc:language>en-US</dc:language>
  <cp:lastModifiedBy>rebecca</cp:lastModifiedBy>
  <dcterms:modified xsi:type="dcterms:W3CDTF">2009-02-18T19:46:43Z</dcterms:modified>
  <cp:revision>2</cp:revision>
  <dc:subject/>
  <dc:title>DOL</dc:title>
</cp:coreProperties>
</file>